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90B-50FD-4449-A7C4-82A62579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DAA-9D91-4B5D-AAF0-DAB4A0A6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9FF-4C7A-45CB-9BF1-470A7431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987-25BA-4C68-BDCC-1C73FBBB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DC2-8EEB-45B7-B89E-0DA70A2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52A-8E1E-409C-AA56-7F1E13D0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4E3-0E63-4CEA-900E-90EA7684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622-F232-41A5-84F0-99659EA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A74-C0CB-4F1B-80E5-8DAA1C5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6BB-08E4-44E3-BF1E-E56AD9A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C78-BE7D-43D8-AE83-9BFB760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0B3-5A01-46A0-A5B2-A4E4EA0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FBB-E2D8-4C67-AE04-7AE11CFA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kentucky.gov/" TargetMode="External"/><Relationship Id="rId4" Type="http://schemas.openxmlformats.org/officeDocument/2006/relationships/hyperlink" Target="http://bensguide.gpo.gov/3-5/state/kentucky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postcardsfrom.com/stamp/stamp-ky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543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entucky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487692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380880"/>
            <a:ext cx="4190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al: Frank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6/17/1769,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The Bluegras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: Golden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ird: Ca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ng: My old Kentuck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based on an Indian word meaning land of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665360" cy="170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0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4876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Kentucky: Map and State Flag"/>
          <p:cNvPicPr/>
          <p:nvPr/>
        </p:nvPicPr>
        <p:blipFill>
          <a:blip r:embed="rId1"/>
          <a:srcRect l="8002" t="0" r="8116" b="53678"/>
          <a:stretch/>
        </p:blipFill>
        <p:spPr>
          <a:xfrm>
            <a:off x="304920" y="457200"/>
            <a:ext cx="32004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Kentucky: Map and State Flag"/>
          <p:cNvPicPr/>
          <p:nvPr/>
        </p:nvPicPr>
        <p:blipFill>
          <a:blip r:embed="rId2"/>
          <a:srcRect l="0" t="48796" r="0" b="0"/>
          <a:stretch/>
        </p:blipFill>
        <p:spPr>
          <a:xfrm>
            <a:off x="5105520" y="2438280"/>
            <a:ext cx="38145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4495680"/>
            <a:ext cx="6172200" cy="209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ick Fact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ent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September 20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kentuck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© 1999 WriteLine. Goldenrod"/>
          <p:cNvPicPr/>
          <p:nvPr/>
        </p:nvPicPr>
        <p:blipFill>
          <a:blip r:embed="rId1"/>
          <a:stretch/>
        </p:blipFill>
        <p:spPr>
          <a:xfrm>
            <a:off x="762120" y="380880"/>
            <a:ext cx="237780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© 1999 WriteLine. Cardinal"/>
          <p:cNvPicPr/>
          <p:nvPr/>
        </p:nvPicPr>
        <p:blipFill>
          <a:blip r:embed="rId2"/>
          <a:stretch/>
        </p:blipFill>
        <p:spPr>
          <a:xfrm>
            <a:off x="5181480" y="609480"/>
            <a:ext cx="332424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495288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tate Stamp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733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 is a state filled will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47Z</dcterms:modified>
  <cp:revision>17</cp:revision>
  <dc:subject/>
  <dc:title>Slide 1</dc:title>
</cp:coreProperties>
</file>